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TADA.WAV" ContentType="audio/x-wav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ntro.wav" ContentType="audio/x-wav"/>
  <Override PartName="/ppt/media/image23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35.wmf" ContentType="image/x-wmf"/>
  <Override PartName="/ppt/media/image21.wmf" ContentType="image/x-wmf"/>
  <Override PartName="/ppt/media/image58.wmf" ContentType="image/x-wmf"/>
  <Override PartName="/ppt/media/image56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4.wmf" ContentType="image/x-wmf"/>
  <Override PartName="/ppt/media/image63.wmf" ContentType="image/x-wmf"/>
  <Override PartName="/ppt/media/applause.wav" ContentType="audio/x-wav"/>
  <Override PartName="/ppt/media/image7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77.wmf" ContentType="image/x-wmf"/>
  <Override PartName="/ppt/media/image79.wmf" ContentType="image/x-wmf"/>
  <Override PartName="/ppt/media/image78.wmf" ContentType="image/x-wmf"/>
  <Override PartName="/ppt/media/image41.wmf" ContentType="image/x-wmf"/>
  <Override PartName="/ppt/media/image76.wmf" ContentType="image/x-wmf"/>
  <Override PartName="/ppt/media/nextquestion.wav" ContentType="audio/x-wav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68.wmf" ContentType="image/x-wmf"/>
  <Override PartName="/ppt/media/alarm.wav" ContentType="audio/x-wav"/>
  <Override PartName="/ppt/media/image13.wmf" ContentType="image/x-wmf"/>
  <Override PartName="/ppt/media/image12.wmf" ContentType="image/x-wmf"/>
  <Override PartName="/ppt/media/image49.wmf" ContentType="image/x-wmf"/>
  <Override PartName="/ppt/media/image11.wmf" ContentType="image/x-wmf"/>
  <Override PartName="/ppt/media/image48.wmf" ContentType="image/x-wmf"/>
  <Override PartName="/ppt/media/image10.wmf" ContentType="image/x-wmf"/>
  <Override PartName="/ppt/media/image47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85.wmf" ContentType="image/x-wmf"/>
  <Override PartName="/ppt/media/image8.wmf" ContentType="image/x-wmf"/>
  <Override PartName="/ppt/media/image38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askaud.wav" ContentType="audio/x-wav"/>
  <Override PartName="/ppt/media/image5.wmf" ContentType="image/x-wmf"/>
  <Override PartName="/ppt/media/image82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  <p:custShowLst>
    <p:custShow name="Custom Show 1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792504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480" y="3386520"/>
            <a:ext cx="792504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8280" y="255060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7480" y="338652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8280" y="338652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255168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48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6960" y="2550600"/>
            <a:ext cx="255168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48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800" y="2550600"/>
            <a:ext cx="255168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48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480" y="3386520"/>
            <a:ext cx="255168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48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6960" y="3386520"/>
            <a:ext cx="255168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48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800" y="3386520"/>
            <a:ext cx="255168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48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17480" y="255060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3867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78280" y="2550600"/>
            <a:ext cx="3867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8280" y="2550600"/>
            <a:ext cx="3867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17480" y="338652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17480" y="255060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3867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8280" y="255060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78280" y="338652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8280" y="255060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7480" y="3386520"/>
            <a:ext cx="792504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792504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480" y="3386520"/>
            <a:ext cx="792504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8280" y="255060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7480" y="338652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78280" y="338652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255168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48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6960" y="2550600"/>
            <a:ext cx="255168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48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76800" y="2550600"/>
            <a:ext cx="255168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48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17480" y="3386520"/>
            <a:ext cx="255168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48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96960" y="3386520"/>
            <a:ext cx="255168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48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76800" y="3386520"/>
            <a:ext cx="255168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48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3867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8280" y="2550600"/>
            <a:ext cx="3867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8280" y="2550600"/>
            <a:ext cx="3867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17480" y="338652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3867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8280" y="255060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8280" y="338652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7480" y="255060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8280" y="2550600"/>
            <a:ext cx="386712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480" y="3386520"/>
            <a:ext cx="792504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 algn="ctr">
              <a:spcBef>
                <a:spcPts val="601"/>
              </a:spcBef>
              <a:buNone/>
              <a:tabLst>
                <a:tab algn="l" pos="0"/>
                <a:tab algn="l" pos="771192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7480" y="255060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27720" indent="0" algn="ctr">
              <a:spcBef>
                <a:spcPts val="601"/>
              </a:spcBef>
              <a:tabLst>
                <a:tab algn="l" pos="0"/>
                <a:tab algn="l" pos="771192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27720" indent="2448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71192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27720" indent="2448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771192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27720" indent="2448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71192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7720" indent="2448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771192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7720" indent="2448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771192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7720" indent="2448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771192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1988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Template by Bill Arcuri, WC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intro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13.wmf"/><Relationship Id="rId23" Type="http://schemas.openxmlformats.org/officeDocument/2006/relationships/image" Target="../media/image8.wmf"/><Relationship Id="rId2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image" Target="../media/image2.wmf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1.wmf"/><Relationship Id="rId17" Type="http://schemas.openxmlformats.org/officeDocument/2006/relationships/image" Target="../media/image8.wmf"/><Relationship Id="rId1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17.wmf"/><Relationship Id="rId23" Type="http://schemas.openxmlformats.org/officeDocument/2006/relationships/image" Target="../media/image8.wmf"/><Relationship Id="rId24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16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17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22.wmf"/><Relationship Id="rId23" Type="http://schemas.openxmlformats.org/officeDocument/2006/relationships/image" Target="../media/image8.wmf"/><Relationship Id="rId2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22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hyperlink" Target="file:///tmp/home/.config/libreoffice/4/user/gallery/drumroll.wav" TargetMode="External"/><Relationship Id="rId8" Type="http://schemas.openxmlformats.org/officeDocument/2006/relationships/image" Target="../media/image2.wmf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27.wmf"/><Relationship Id="rId21" Type="http://schemas.openxmlformats.org/officeDocument/2006/relationships/image" Target="../media/image8.wmf"/><Relationship Id="rId22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27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32.wmf"/><Relationship Id="rId23" Type="http://schemas.openxmlformats.org/officeDocument/2006/relationships/image" Target="../media/image8.wmf"/><Relationship Id="rId2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32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" Target="slide8.xml"/><Relationship Id="rId4" Type="http://schemas.openxmlformats.org/officeDocument/2006/relationships/slide" Target="slide34.xml"/><Relationship Id="rId5" Type="http://schemas.openxmlformats.org/officeDocument/2006/relationships/slide" Target="slide8.xml"/><Relationship Id="rId6" Type="http://schemas.openxmlformats.org/officeDocument/2006/relationships/slide" Target="slide32.xml"/><Relationship Id="rId7" Type="http://schemas.openxmlformats.org/officeDocument/2006/relationships/slide" Target="slide8.xml"/><Relationship Id="rId8" Type="http://schemas.openxmlformats.org/officeDocument/2006/relationships/slide" Target="slide30.xml"/><Relationship Id="rId9" Type="http://schemas.openxmlformats.org/officeDocument/2006/relationships/slide" Target="slide8.xml"/><Relationship Id="rId10" Type="http://schemas.openxmlformats.org/officeDocument/2006/relationships/slide" Target="slide28.xml"/><Relationship Id="rId11" Type="http://schemas.openxmlformats.org/officeDocument/2006/relationships/slide" Target="slide18.xml"/><Relationship Id="rId12" Type="http://schemas.openxmlformats.org/officeDocument/2006/relationships/slide" Target="slide26.xml"/><Relationship Id="rId13" Type="http://schemas.openxmlformats.org/officeDocument/2006/relationships/slide" Target="slide8.xml"/><Relationship Id="rId14" Type="http://schemas.openxmlformats.org/officeDocument/2006/relationships/slide" Target="slide24.xml"/><Relationship Id="rId15" Type="http://schemas.openxmlformats.org/officeDocument/2006/relationships/slide" Target="slide8.xml"/><Relationship Id="rId16" Type="http://schemas.openxmlformats.org/officeDocument/2006/relationships/slide" Target="slide22.xml"/><Relationship Id="rId17" Type="http://schemas.openxmlformats.org/officeDocument/2006/relationships/slide" Target="slide8.xml"/><Relationship Id="rId18" Type="http://schemas.openxmlformats.org/officeDocument/2006/relationships/slide" Target="slide20.xml"/><Relationship Id="rId19" Type="http://schemas.openxmlformats.org/officeDocument/2006/relationships/slide" Target="slide8.xml"/><Relationship Id="rId20" Type="http://schemas.openxmlformats.org/officeDocument/2006/relationships/slide" Target="slide18.xml"/><Relationship Id="rId21" Type="http://schemas.openxmlformats.org/officeDocument/2006/relationships/slide" Target="slide8.xml"/><Relationship Id="rId22" Type="http://schemas.openxmlformats.org/officeDocument/2006/relationships/slide" Target="slide16.xml"/><Relationship Id="rId23" Type="http://schemas.openxmlformats.org/officeDocument/2006/relationships/slide" Target="slide8.xml"/><Relationship Id="rId24" Type="http://schemas.openxmlformats.org/officeDocument/2006/relationships/slide" Target="slide14.xml"/><Relationship Id="rId25" Type="http://schemas.openxmlformats.org/officeDocument/2006/relationships/slide" Target="slide8.xml"/><Relationship Id="rId26" Type="http://schemas.openxmlformats.org/officeDocument/2006/relationships/slide" Target="slide12.xml"/><Relationship Id="rId27" Type="http://schemas.openxmlformats.org/officeDocument/2006/relationships/slide" Target="slide8.xml"/><Relationship Id="rId28" Type="http://schemas.openxmlformats.org/officeDocument/2006/relationships/slide" Target="slide10.xml"/><Relationship Id="rId29" Type="http://schemas.openxmlformats.org/officeDocument/2006/relationships/slide" Target="slide8.xml"/><Relationship Id="rId30" Type="http://schemas.openxmlformats.org/officeDocument/2006/relationships/slide" Target="slide8.xml"/><Relationship Id="rId3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38.wmf"/><Relationship Id="rId23" Type="http://schemas.openxmlformats.org/officeDocument/2006/relationships/image" Target="../media/image8.wmf"/><Relationship Id="rId24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9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40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38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44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45.wmf"/><Relationship Id="rId23" Type="http://schemas.openxmlformats.org/officeDocument/2006/relationships/image" Target="../media/image8.wmf"/><Relationship Id="rId2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46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47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48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50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53.wmf"/><Relationship Id="rId23" Type="http://schemas.openxmlformats.org/officeDocument/2006/relationships/image" Target="../media/image8.wmf"/><Relationship Id="rId24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49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51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52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57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58.wmf"/><Relationship Id="rId23" Type="http://schemas.openxmlformats.org/officeDocument/2006/relationships/image" Target="../media/image8.wmf"/><Relationship Id="rId24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54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57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59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63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64.wmf"/><Relationship Id="rId23" Type="http://schemas.openxmlformats.org/officeDocument/2006/relationships/image" Target="../media/image8.wmf"/><Relationship Id="rId2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60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61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64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65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68.wmf"/><Relationship Id="rId23" Type="http://schemas.openxmlformats.org/officeDocument/2006/relationships/image" Target="../media/image8.wmf"/><Relationship Id="rId24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69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67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11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71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72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73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74.wmf"/><Relationship Id="rId23" Type="http://schemas.openxmlformats.org/officeDocument/2006/relationships/image" Target="../media/image8.wmf"/><Relationship Id="rId24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70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72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74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5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76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77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78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79.wmf"/><Relationship Id="rId23" Type="http://schemas.openxmlformats.org/officeDocument/2006/relationships/image" Target="../media/image8.wmf"/><Relationship Id="rId24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75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76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78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38.xml"/><Relationship Id="rId8" Type="http://schemas.openxmlformats.org/officeDocument/2006/relationships/slide" Target="slide7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image" Target="../media/image2.wmf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0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81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82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83.wmf"/><Relationship Id="rId21" Type="http://schemas.openxmlformats.org/officeDocument/2006/relationships/oleObject" Target="../embeddings/oleObject5.bin"/><Relationship Id="rId22" Type="http://schemas.openxmlformats.org/officeDocument/2006/relationships/image" Target="../media/image84.wmf"/><Relationship Id="rId23" Type="http://schemas.openxmlformats.org/officeDocument/2006/relationships/image" Target="../media/image8.wmf"/><Relationship Id="rId24" Type="http://schemas.openxmlformats.org/officeDocument/2006/relationships/audio" Target="../media/nextquestion.wav"/><Relationship Id="rId25" Type="http://schemas.openxmlformats.org/officeDocument/2006/relationships/audio" Target="../media/TADA.WAV"/><Relationship Id="rId26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38.xml"/><Relationship Id="rId8" Type="http://schemas.openxmlformats.org/officeDocument/2006/relationships/slide" Target="slide7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80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85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86.wmf"/><Relationship Id="rId18" Type="http://schemas.openxmlformats.org/officeDocument/2006/relationships/image" Target="../media/image8.wmf"/><Relationship Id="rId19" Type="http://schemas.openxmlformats.org/officeDocument/2006/relationships/audio" Target="../media/nextquestion.wav"/><Relationship Id="rId20" Type="http://schemas.openxmlformats.org/officeDocument/2006/relationships/audio" Target="../media/TADA.WAV"/><Relationship Id="rId21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AD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askaud.wav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TADA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TADA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TADA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AD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TAD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ADA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TAD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AD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larm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hyperlink" Target="file:///tmp/home/.config/libreoffice/4/user/gallery/drumroll.wav" TargetMode="Externa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4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5.wmf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6.wmf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7.wmf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4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o Wants to Be a Millionaire?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80361" t="17315" r="4258" b="65436"/>
          <a:stretch/>
        </p:blipFill>
        <p:spPr>
          <a:xfrm>
            <a:off x="3505320" y="457200"/>
            <a:ext cx="2133360" cy="21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208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76440" y="127584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222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230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735440" y="1492200"/>
          <a:ext cx="154008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35440" y="1492200"/>
                    <a:ext cx="1540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693800" y="4673520"/>
          <a:ext cx="990720" cy="68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93800" y="4673520"/>
                    <a:ext cx="9907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731960" y="5721480"/>
          <a:ext cx="992160" cy="68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31960" y="5721480"/>
                    <a:ext cx="9921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218280" y="4692600"/>
          <a:ext cx="971640" cy="684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18280" y="4692600"/>
                    <a:ext cx="971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6208560" y="5740560"/>
          <a:ext cx="990720" cy="68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08560" y="5740560"/>
                    <a:ext cx="990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2 for $2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249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252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24200" y="150444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264" name="" descr=""/>
            <p:cNvPicPr/>
            <p:nvPr/>
          </p:nvPicPr>
          <p:blipFill>
            <a:blip r:embed="rId8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>
            <a:hlinkClick r:id="rId9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270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>
            <a:hlinkClick r:id="rId10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183200" y="1720800"/>
          <a:ext cx="1539720" cy="81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83200" y="1720800"/>
                    <a:ext cx="15397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1693800" y="4673520"/>
          <a:ext cx="990720" cy="68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93800" y="4673520"/>
                    <a:ext cx="9907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1731960" y="5721480"/>
          <a:ext cx="992160" cy="68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31960" y="5721480"/>
                    <a:ext cx="9921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2 for $2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285" name="j0088510" descr=""/>
            <p:cNvPicPr/>
            <p:nvPr/>
          </p:nvPicPr>
          <p:blipFill>
            <a:blip r:embed="rId17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288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76440" y="127584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302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310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5081760" y="1473120"/>
          <a:ext cx="218088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81760" y="1473120"/>
                    <a:ext cx="2180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1882800" y="4772160"/>
          <a:ext cx="725400" cy="57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82800" y="4772160"/>
                    <a:ext cx="7254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1714680" y="5721480"/>
          <a:ext cx="1027080" cy="68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14680" y="5721480"/>
                    <a:ext cx="10270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6218280" y="4692600"/>
          <a:ext cx="971640" cy="684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18280" y="4692600"/>
                    <a:ext cx="971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200640" y="5740560"/>
          <a:ext cx="1008360" cy="68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00640" y="5740560"/>
                    <a:ext cx="10083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3 for $3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329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332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76440" y="127584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345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351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081760" y="1473120"/>
          <a:ext cx="2180880" cy="81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81760" y="1473120"/>
                    <a:ext cx="2180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714680" y="5721480"/>
          <a:ext cx="1027080" cy="684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14680" y="5721480"/>
                    <a:ext cx="10270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6200640" y="5740560"/>
          <a:ext cx="1008360" cy="684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00640" y="5740560"/>
                    <a:ext cx="10083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3 for $3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366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369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76440" y="127584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383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391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984920" y="1430280"/>
          <a:ext cx="2374560" cy="898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84920" y="1430280"/>
                    <a:ext cx="23745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1701720" y="4761000"/>
          <a:ext cx="1089000" cy="598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01720" y="4761000"/>
                    <a:ext cx="10890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1670040" y="5757840"/>
          <a:ext cx="1116000" cy="611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0040" y="5757840"/>
                    <a:ext cx="11160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6156360" y="4729320"/>
          <a:ext cx="1096920" cy="610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56360" y="4729320"/>
                    <a:ext cx="10969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048360" y="5775480"/>
          <a:ext cx="131436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48360" y="5775480"/>
                    <a:ext cx="1314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4 for $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410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413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76440" y="127584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432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4984920" y="1430280"/>
          <a:ext cx="2374560" cy="898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984920" y="1430280"/>
                    <a:ext cx="23745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6156360" y="4729320"/>
          <a:ext cx="1096920" cy="610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56360" y="4729320"/>
                    <a:ext cx="10969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048360" y="5775480"/>
          <a:ext cx="1314360" cy="612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048360" y="5775480"/>
                    <a:ext cx="1314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4 for $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447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450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>
            <a:hlinkClick r:id="rId5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>
            <a:hlinkClick r:id="rId6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nextslide"/>
            <a:hlinkClick r:id="rId7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464" name="" descr=""/>
            <p:cNvPicPr/>
            <p:nvPr/>
          </p:nvPicPr>
          <p:blipFill>
            <a:blip r:embed="rId8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>
            <a:hlinkClick r:id="rId9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472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" name="">
            <a:hlinkClick r:id="rId10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3895560" y="1473120"/>
          <a:ext cx="3829320" cy="81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95560" y="1473120"/>
                    <a:ext cx="38293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1744560" y="4772160"/>
          <a:ext cx="1003320" cy="57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44560" y="4772160"/>
                    <a:ext cx="10033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1598760" y="5722920"/>
          <a:ext cx="1258920" cy="682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98760" y="5722920"/>
                    <a:ext cx="12589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5959440" y="4692600"/>
          <a:ext cx="1492200" cy="68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59440" y="4692600"/>
                    <a:ext cx="1492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6426360" y="5837400"/>
          <a:ext cx="558720" cy="487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6360" y="5837400"/>
                    <a:ext cx="5587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5 for $1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491" name="j0088510" descr=""/>
            <p:cNvPicPr/>
            <p:nvPr/>
          </p:nvPicPr>
          <p:blipFill>
            <a:blip r:embed="rId21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494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507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9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513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3895560" y="1473120"/>
          <a:ext cx="3829320" cy="81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95560" y="1473120"/>
                    <a:ext cx="38293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1598760" y="5722920"/>
          <a:ext cx="1258920" cy="682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98760" y="5722920"/>
                    <a:ext cx="12589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5 for $1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6426360" y="5837400"/>
          <a:ext cx="558720" cy="487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426360" y="5837400"/>
                    <a:ext cx="5587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7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528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531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545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7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553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013280" y="1473120"/>
          <a:ext cx="359388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13280" y="1473120"/>
                    <a:ext cx="3593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1446120" y="4654440"/>
          <a:ext cx="1600200" cy="81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46120" y="4654440"/>
                    <a:ext cx="16002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1706400" y="5722920"/>
          <a:ext cx="1043280" cy="68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06400" y="5722920"/>
                    <a:ext cx="10432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6543720" y="4800600"/>
          <a:ext cx="323640" cy="466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43720" y="4800600"/>
                    <a:ext cx="323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6075360" y="5746680"/>
          <a:ext cx="1260360" cy="668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75360" y="5746680"/>
                    <a:ext cx="1260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6 for $2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572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575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2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588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0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594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0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4013280" y="1473120"/>
          <a:ext cx="3593880" cy="81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13280" y="1473120"/>
                    <a:ext cx="3593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1706400" y="5722920"/>
          <a:ext cx="1043280" cy="682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06400" y="5722920"/>
                    <a:ext cx="10432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6075360" y="5746680"/>
          <a:ext cx="1260360" cy="668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075360" y="5746680"/>
                    <a:ext cx="1260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6 for $2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609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748800"/>
            <a:ext cx="559764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SIMPLIFYING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RADICAL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57836" t="16336" r="20842" b="42719"/>
          <a:stretch/>
        </p:blipFill>
        <p:spPr>
          <a:xfrm>
            <a:off x="5724360" y="304920"/>
            <a:ext cx="3267360" cy="6140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867280" y="-56880"/>
            <a:ext cx="3276720" cy="66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2" action="ppaction://hlinksldjump"/>
              </a:rPr>
              <a:t>___________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3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4" action="ppaction://hlinksldjump"/>
              </a:rPr>
              <a:t>_______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5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6" action="ppaction://hlinksldjump"/>
              </a:rPr>
              <a:t>_______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7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8" action="ppaction://hlinksldjump"/>
              </a:rPr>
              <a:t>_______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9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10" action="ppaction://hlinksldjump"/>
              </a:rPr>
              <a:t>_____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11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12" action="ppaction://hlinksldjump"/>
              </a:rPr>
              <a:t>_____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13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14" action="ppaction://hlinksldjump"/>
              </a:rPr>
              <a:t>____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15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16" action="ppaction://hlinksldjump"/>
              </a:rPr>
              <a:t>___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17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18" action="ppaction://hlinksldjump"/>
              </a:rPr>
              <a:t>___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19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20" action="ppaction://hlinksldjump"/>
              </a:rPr>
              <a:t>___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21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22" action="ppaction://hlinksldjump"/>
              </a:rPr>
              <a:t>___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23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24" action="ppaction://hlinksldjump"/>
              </a:rPr>
              <a:t>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25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26" action="ppaction://hlinksldjump"/>
              </a:rPr>
              <a:t>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</a:rPr>
              <a:t>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27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28" action="ppaction://hlinksldjump"/>
              </a:rPr>
              <a:t>______________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29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Bodoni"/>
                <a:hlinkClick r:id="rId30" action="ppaction://hlinksldjump"/>
              </a:rPr>
              <a:t>___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14400" y="5486040"/>
            <a:ext cx="4266720" cy="642600"/>
            <a:chOff x="914400" y="5486040"/>
            <a:chExt cx="4266720" cy="642600"/>
          </a:xfrm>
        </p:grpSpPr>
        <p:sp>
          <p:nvSpPr>
            <p:cNvPr id="82" name=""/>
            <p:cNvSpPr/>
            <p:nvPr/>
          </p:nvSpPr>
          <p:spPr>
            <a:xfrm>
              <a:off x="914400" y="5486040"/>
              <a:ext cx="39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he appropriate dollar amount at right to proceed to the ques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54520" y="5791320"/>
              <a:ext cx="4266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612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626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634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4173480" y="1333440"/>
          <a:ext cx="1862280" cy="1817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73480" y="1333440"/>
                    <a:ext cx="186228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1882800" y="4772160"/>
          <a:ext cx="725400" cy="57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82800" y="4772160"/>
                    <a:ext cx="7254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1590840" y="5722920"/>
          <a:ext cx="1276200" cy="68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90840" y="5722920"/>
                    <a:ext cx="12762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6049800" y="4702320"/>
          <a:ext cx="1312920" cy="66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49800" y="4702320"/>
                    <a:ext cx="131292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6281640" y="5837400"/>
          <a:ext cx="846360" cy="487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81640" y="5837400"/>
                    <a:ext cx="84636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7 for $4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653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656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3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669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1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675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1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4173480" y="1333440"/>
          <a:ext cx="1862280" cy="1817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73480" y="1333440"/>
                    <a:ext cx="186228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1882800" y="4772160"/>
          <a:ext cx="725400" cy="576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82800" y="4772160"/>
                    <a:ext cx="7254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6281640" y="5837400"/>
          <a:ext cx="846360" cy="487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81640" y="5837400"/>
                    <a:ext cx="84636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7 for $4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690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693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0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707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715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1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3703680" y="1487520"/>
          <a:ext cx="3487680" cy="898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03680" y="1487520"/>
                    <a:ext cx="34876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1308240" y="4654440"/>
          <a:ext cx="1876320" cy="81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08240" y="4654440"/>
                    <a:ext cx="187632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590840" y="5722920"/>
          <a:ext cx="1276200" cy="68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90840" y="5722920"/>
                    <a:ext cx="12762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789520" y="4694400"/>
          <a:ext cx="1833480" cy="682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89520" y="4694400"/>
                    <a:ext cx="1833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5913360" y="5738760"/>
          <a:ext cx="1584360" cy="68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13360" y="5738760"/>
                    <a:ext cx="1584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2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8 for $8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734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737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4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750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2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756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2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3703680" y="1487520"/>
          <a:ext cx="3487680" cy="898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03680" y="1487520"/>
                    <a:ext cx="34876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1308240" y="4654440"/>
          <a:ext cx="1876320" cy="811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308240" y="4654440"/>
                    <a:ext cx="187632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"/>
          <p:cNvGraphicFramePr/>
          <p:nvPr/>
        </p:nvGraphicFramePr>
        <p:xfrm>
          <a:off x="5913360" y="5738760"/>
          <a:ext cx="1584360" cy="685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13360" y="5738760"/>
                    <a:ext cx="1584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8 for $8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771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774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1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812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788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0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796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2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3089160" y="1530360"/>
          <a:ext cx="513576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89160" y="1530360"/>
                    <a:ext cx="5135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1457280" y="4654440"/>
          <a:ext cx="1577880" cy="81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57280" y="4654440"/>
                    <a:ext cx="157788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1733400" y="5722920"/>
          <a:ext cx="989280" cy="68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33400" y="5722920"/>
                    <a:ext cx="9892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"/>
          <p:cNvGraphicFramePr/>
          <p:nvPr/>
        </p:nvGraphicFramePr>
        <p:xfrm>
          <a:off x="6040440" y="4694400"/>
          <a:ext cx="1330200" cy="682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40440" y="4694400"/>
                    <a:ext cx="13302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6200640" y="5738760"/>
          <a:ext cx="1009800" cy="68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00640" y="5738760"/>
                    <a:ext cx="1009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9 for $16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815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818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5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812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831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3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837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3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3089160" y="1530360"/>
          <a:ext cx="5135760" cy="81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89160" y="1530360"/>
                    <a:ext cx="5135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"/>
          <p:cNvGraphicFramePr/>
          <p:nvPr/>
        </p:nvGraphicFramePr>
        <p:xfrm>
          <a:off x="1733400" y="5722920"/>
          <a:ext cx="989280" cy="682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33400" y="5722920"/>
                    <a:ext cx="9892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"/>
          <p:cNvGraphicFramePr/>
          <p:nvPr/>
        </p:nvGraphicFramePr>
        <p:xfrm>
          <a:off x="6040440" y="4694400"/>
          <a:ext cx="1330200" cy="682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040440" y="4694400"/>
                    <a:ext cx="13302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9 for $16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852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855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2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812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869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1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877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3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178160" y="1389240"/>
          <a:ext cx="898560" cy="166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78160" y="1389240"/>
                    <a:ext cx="89856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"/>
          <p:cNvGraphicFramePr/>
          <p:nvPr/>
        </p:nvGraphicFramePr>
        <p:xfrm>
          <a:off x="1847880" y="4570560"/>
          <a:ext cx="873000" cy="922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7880" y="4570560"/>
                    <a:ext cx="8730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2084400" y="5821200"/>
          <a:ext cx="287280" cy="486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84400" y="5821200"/>
                    <a:ext cx="2872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"/>
          <p:cNvGraphicFramePr/>
          <p:nvPr/>
        </p:nvGraphicFramePr>
        <p:xfrm>
          <a:off x="6219720" y="4694400"/>
          <a:ext cx="970200" cy="682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19720" y="4694400"/>
                    <a:ext cx="9702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"/>
          <p:cNvGraphicFramePr/>
          <p:nvPr/>
        </p:nvGraphicFramePr>
        <p:xfrm>
          <a:off x="6353280" y="5738760"/>
          <a:ext cx="703080" cy="68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53280" y="5738760"/>
                    <a:ext cx="703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0 for $32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896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899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6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812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912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4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918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4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4178160" y="1389240"/>
          <a:ext cx="898560" cy="1668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78160" y="1389240"/>
                    <a:ext cx="89856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7" name=""/>
          <p:cNvGraphicFramePr/>
          <p:nvPr/>
        </p:nvGraphicFramePr>
        <p:xfrm>
          <a:off x="6219720" y="4694400"/>
          <a:ext cx="970200" cy="682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219720" y="4694400"/>
                    <a:ext cx="9702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6353280" y="5738760"/>
          <a:ext cx="703080" cy="685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353280" y="5738760"/>
                    <a:ext cx="703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0 for $32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933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936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3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812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950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2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958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4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3857760" y="1314360"/>
          <a:ext cx="1539720" cy="1817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57760" y="1314360"/>
                    <a:ext cx="153972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1677960" y="4680000"/>
          <a:ext cx="1214640" cy="64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7960" y="4680000"/>
                    <a:ext cx="121464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9" name=""/>
          <p:cNvGraphicFramePr/>
          <p:nvPr/>
        </p:nvGraphicFramePr>
        <p:xfrm>
          <a:off x="1608120" y="5722920"/>
          <a:ext cx="1239840" cy="68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08120" y="5722920"/>
                    <a:ext cx="12398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1" name=""/>
          <p:cNvGraphicFramePr/>
          <p:nvPr/>
        </p:nvGraphicFramePr>
        <p:xfrm>
          <a:off x="6192720" y="4694400"/>
          <a:ext cx="1024200" cy="682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92720" y="4694400"/>
                    <a:ext cx="10242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3" name=""/>
          <p:cNvGraphicFramePr/>
          <p:nvPr/>
        </p:nvGraphicFramePr>
        <p:xfrm>
          <a:off x="6191280" y="5738760"/>
          <a:ext cx="1028520" cy="68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7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91280" y="5738760"/>
                    <a:ext cx="1028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5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1 for $64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977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980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7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7812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993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5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999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5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3857760" y="1314360"/>
          <a:ext cx="1539720" cy="1817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57760" y="1314360"/>
                    <a:ext cx="153972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"/>
          <p:cNvGraphicFramePr/>
          <p:nvPr/>
        </p:nvGraphicFramePr>
        <p:xfrm>
          <a:off x="1677960" y="4680000"/>
          <a:ext cx="1214640" cy="646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77960" y="4680000"/>
                    <a:ext cx="121464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6191280" y="5738760"/>
          <a:ext cx="1028520" cy="685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91280" y="5738760"/>
                    <a:ext cx="1028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2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1 for $64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1014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one A Frie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81668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771192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K Contestant…Please select a friend to help you with this one.  You have thirty seconds to discuss your options…”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5257800" y="5715000"/>
            <a:ext cx="34416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urn to the Qu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00200"/>
            <a:ext cx="769608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019920" y="533520"/>
            <a:ext cx="2286000" cy="1209600"/>
            <a:chOff x="6019920" y="533520"/>
            <a:chExt cx="2286000" cy="1209600"/>
          </a:xfrm>
        </p:grpSpPr>
        <p:sp>
          <p:nvSpPr>
            <p:cNvPr id="89" name="">
              <a:hlinkClick r:id="rId1" action="ppaction://hlinksldjump"/>
            </p:cNvPr>
            <p:cNvSpPr/>
            <p:nvPr/>
          </p:nvSpPr>
          <p:spPr>
            <a:xfrm>
              <a:off x="6019920" y="533520"/>
              <a:ext cx="2286000" cy="120960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333480" y="684360"/>
              <a:ext cx="1535040" cy="1008360"/>
              <a:chOff x="6333480" y="684360"/>
              <a:chExt cx="1535040" cy="100836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 flipH="1" rot="10800000">
                <a:off x="7071120" y="684360"/>
                <a:ext cx="797400" cy="94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flipH="1" flipV="1" rot="2869200">
                <a:off x="6198480" y="1167120"/>
                <a:ext cx="1120320" cy="132120"/>
              </a:xfrm>
              <a:custGeom>
                <a:avLst/>
                <a:gdLst/>
                <a:ahLst/>
                <a:rect l="l" t="t" r="r" b="b"/>
                <a:pathLst>
                  <a:path w="3264" h="336">
                    <a:moveTo>
                      <a:pt x="0" y="336"/>
                    </a:moveTo>
                    <a:cubicBezTo>
                      <a:pt x="96" y="168"/>
                      <a:pt x="192" y="0"/>
                      <a:pt x="288" y="0"/>
                    </a:cubicBezTo>
                    <a:cubicBezTo>
                      <a:pt x="384" y="0"/>
                      <a:pt x="480" y="336"/>
                      <a:pt x="576" y="336"/>
                    </a:cubicBezTo>
                    <a:cubicBezTo>
                      <a:pt x="672" y="336"/>
                      <a:pt x="776" y="0"/>
                      <a:pt x="864" y="0"/>
                    </a:cubicBezTo>
                    <a:cubicBezTo>
                      <a:pt x="952" y="0"/>
                      <a:pt x="1016" y="336"/>
                      <a:pt x="1104" y="336"/>
                    </a:cubicBezTo>
                    <a:cubicBezTo>
                      <a:pt x="1192" y="336"/>
                      <a:pt x="1304" y="0"/>
                      <a:pt x="1392" y="0"/>
                    </a:cubicBezTo>
                    <a:cubicBezTo>
                      <a:pt x="1480" y="0"/>
                      <a:pt x="1544" y="336"/>
                      <a:pt x="1632" y="336"/>
                    </a:cubicBezTo>
                    <a:cubicBezTo>
                      <a:pt x="1720" y="336"/>
                      <a:pt x="1832" y="0"/>
                      <a:pt x="1920" y="0"/>
                    </a:cubicBezTo>
                    <a:cubicBezTo>
                      <a:pt x="2008" y="0"/>
                      <a:pt x="2072" y="336"/>
                      <a:pt x="2160" y="336"/>
                    </a:cubicBezTo>
                    <a:cubicBezTo>
                      <a:pt x="2248" y="336"/>
                      <a:pt x="2352" y="0"/>
                      <a:pt x="2448" y="0"/>
                    </a:cubicBezTo>
                    <a:cubicBezTo>
                      <a:pt x="2544" y="0"/>
                      <a:pt x="2640" y="336"/>
                      <a:pt x="2736" y="336"/>
                    </a:cubicBezTo>
                    <a:cubicBezTo>
                      <a:pt x="2832" y="336"/>
                      <a:pt x="2936" y="0"/>
                      <a:pt x="3024" y="0"/>
                    </a:cubicBezTo>
                    <a:cubicBezTo>
                      <a:pt x="3112" y="0"/>
                      <a:pt x="3188" y="168"/>
                      <a:pt x="3264" y="336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1017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4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812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1031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3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1039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5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3362400" y="1492200"/>
          <a:ext cx="329256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62400" y="1492200"/>
                    <a:ext cx="32925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"/>
          <p:cNvGraphicFramePr/>
          <p:nvPr/>
        </p:nvGraphicFramePr>
        <p:xfrm>
          <a:off x="1560600" y="4672080"/>
          <a:ext cx="1449360" cy="66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60600" y="4672080"/>
                    <a:ext cx="14493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0" name=""/>
          <p:cNvGraphicFramePr/>
          <p:nvPr/>
        </p:nvGraphicFramePr>
        <p:xfrm>
          <a:off x="1616040" y="5722920"/>
          <a:ext cx="1222560" cy="68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16040" y="5722920"/>
                    <a:ext cx="1222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2" name=""/>
          <p:cNvGraphicFramePr/>
          <p:nvPr/>
        </p:nvGraphicFramePr>
        <p:xfrm>
          <a:off x="6210360" y="4694400"/>
          <a:ext cx="987480" cy="682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10360" y="4694400"/>
                    <a:ext cx="987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4" name=""/>
          <p:cNvGraphicFramePr/>
          <p:nvPr/>
        </p:nvGraphicFramePr>
        <p:xfrm>
          <a:off x="6093000" y="5738760"/>
          <a:ext cx="1226880" cy="68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93000" y="5738760"/>
                    <a:ext cx="1226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"/>
          <p:cNvSpPr/>
          <p:nvPr/>
        </p:nvSpPr>
        <p:spPr>
          <a:xfrm>
            <a:off x="1467000" y="495360"/>
            <a:ext cx="6343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2 for $125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1058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1061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8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812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1074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6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1080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6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3362400" y="1492200"/>
          <a:ext cx="3292560" cy="81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62400" y="1492200"/>
                    <a:ext cx="32925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9" name=""/>
          <p:cNvGraphicFramePr/>
          <p:nvPr/>
        </p:nvGraphicFramePr>
        <p:xfrm>
          <a:off x="1616040" y="5722920"/>
          <a:ext cx="1222560" cy="684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16040" y="5722920"/>
                    <a:ext cx="1222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1" name=""/>
          <p:cNvGraphicFramePr/>
          <p:nvPr/>
        </p:nvGraphicFramePr>
        <p:xfrm>
          <a:off x="6210360" y="4694400"/>
          <a:ext cx="987480" cy="682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9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10360" y="4694400"/>
                    <a:ext cx="987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3" name=""/>
          <p:cNvSpPr/>
          <p:nvPr/>
        </p:nvSpPr>
        <p:spPr>
          <a:xfrm>
            <a:off x="1467000" y="495360"/>
            <a:ext cx="6381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2 for $125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1095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1098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5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812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1112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4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1120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6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3411360" y="1454040"/>
          <a:ext cx="536580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11360" y="1454040"/>
                    <a:ext cx="53658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9" name=""/>
          <p:cNvGraphicFramePr/>
          <p:nvPr/>
        </p:nvGraphicFramePr>
        <p:xfrm>
          <a:off x="1508040" y="4680000"/>
          <a:ext cx="1555920" cy="64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08040" y="4680000"/>
                    <a:ext cx="15559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1" name=""/>
          <p:cNvGraphicFramePr/>
          <p:nvPr/>
        </p:nvGraphicFramePr>
        <p:xfrm>
          <a:off x="1562040" y="5730840"/>
          <a:ext cx="1330560" cy="666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62040" y="5730840"/>
                    <a:ext cx="13305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3" name=""/>
          <p:cNvGraphicFramePr/>
          <p:nvPr/>
        </p:nvGraphicFramePr>
        <p:xfrm>
          <a:off x="6040440" y="4702320"/>
          <a:ext cx="1328760" cy="66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40440" y="4702320"/>
                    <a:ext cx="132876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5" name=""/>
          <p:cNvGraphicFramePr/>
          <p:nvPr/>
        </p:nvGraphicFramePr>
        <p:xfrm>
          <a:off x="6021360" y="5748480"/>
          <a:ext cx="1370160" cy="666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21360" y="5748480"/>
                    <a:ext cx="13701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7" name=""/>
          <p:cNvSpPr/>
          <p:nvPr/>
        </p:nvSpPr>
        <p:spPr>
          <a:xfrm>
            <a:off x="1467000" y="495360"/>
            <a:ext cx="6495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3 for $250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1139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0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1142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9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781200" y="12949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1155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7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1161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7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8" name=""/>
          <p:cNvGraphicFramePr/>
          <p:nvPr/>
        </p:nvGraphicFramePr>
        <p:xfrm>
          <a:off x="3411360" y="1454040"/>
          <a:ext cx="5365800" cy="81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11360" y="1454040"/>
                    <a:ext cx="53658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0" name=""/>
          <p:cNvGraphicFramePr/>
          <p:nvPr/>
        </p:nvGraphicFramePr>
        <p:xfrm>
          <a:off x="1562040" y="5730840"/>
          <a:ext cx="1330560" cy="666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62040" y="5730840"/>
                    <a:ext cx="13305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2" name=""/>
          <p:cNvGraphicFramePr/>
          <p:nvPr/>
        </p:nvGraphicFramePr>
        <p:xfrm>
          <a:off x="6021360" y="5748480"/>
          <a:ext cx="1370160" cy="666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021360" y="5748480"/>
                    <a:ext cx="13701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"/>
          <p:cNvSpPr/>
          <p:nvPr/>
        </p:nvSpPr>
        <p:spPr>
          <a:xfrm>
            <a:off x="1371600" y="495360"/>
            <a:ext cx="6362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3 for $250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1176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8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1179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6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0" y="127584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1193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4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5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1201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7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8" name=""/>
          <p:cNvGraphicFramePr/>
          <p:nvPr/>
        </p:nvGraphicFramePr>
        <p:xfrm>
          <a:off x="976320" y="2254320"/>
          <a:ext cx="741852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6320" y="2254320"/>
                    <a:ext cx="74185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0" name=""/>
          <p:cNvGraphicFramePr/>
          <p:nvPr/>
        </p:nvGraphicFramePr>
        <p:xfrm>
          <a:off x="1550880" y="4672080"/>
          <a:ext cx="1470240" cy="66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50880" y="4672080"/>
                    <a:ext cx="14702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2" name=""/>
          <p:cNvGraphicFramePr/>
          <p:nvPr/>
        </p:nvGraphicFramePr>
        <p:xfrm>
          <a:off x="1463760" y="5722920"/>
          <a:ext cx="1528560" cy="68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63760" y="5722920"/>
                    <a:ext cx="1528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4" name=""/>
          <p:cNvGraphicFramePr/>
          <p:nvPr/>
        </p:nvGraphicFramePr>
        <p:xfrm>
          <a:off x="6058080" y="4702320"/>
          <a:ext cx="1293480" cy="66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58080" y="4702320"/>
                    <a:ext cx="12934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6" name=""/>
          <p:cNvGraphicFramePr/>
          <p:nvPr/>
        </p:nvGraphicFramePr>
        <p:xfrm>
          <a:off x="5913360" y="5740560"/>
          <a:ext cx="1586160" cy="68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13360" y="5740560"/>
                    <a:ext cx="15861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8" name=""/>
          <p:cNvSpPr/>
          <p:nvPr/>
        </p:nvSpPr>
        <p:spPr>
          <a:xfrm>
            <a:off x="1467000" y="495360"/>
            <a:ext cx="6324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4 for $500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1220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1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1223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0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0" y="127584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1236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8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1242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8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976320" y="2254320"/>
          <a:ext cx="7418520" cy="81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76320" y="2254320"/>
                    <a:ext cx="74185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1" name=""/>
          <p:cNvGraphicFramePr/>
          <p:nvPr/>
        </p:nvGraphicFramePr>
        <p:xfrm>
          <a:off x="1550880" y="4672080"/>
          <a:ext cx="1470240" cy="663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5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50880" y="4672080"/>
                    <a:ext cx="14702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3" name=""/>
          <p:cNvGraphicFramePr/>
          <p:nvPr/>
        </p:nvGraphicFramePr>
        <p:xfrm>
          <a:off x="6058080" y="4702320"/>
          <a:ext cx="1293480" cy="664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5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058080" y="4702320"/>
                    <a:ext cx="12934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5" name=""/>
          <p:cNvSpPr/>
          <p:nvPr/>
        </p:nvSpPr>
        <p:spPr>
          <a:xfrm>
            <a:off x="1467000" y="495360"/>
            <a:ext cx="6324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4 for $500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1257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8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9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1260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7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0" y="127584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>
            <a:hlinkClick r:id="" action="ppaction://hlinkshowjump?jump=nextslide"/>
            <a:hlinkClick r:id="rId9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1274" name="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5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6" name="">
            <a:hlinkClick r:id="rId11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1282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8" name="">
            <a:hlinkClick r:id="rId12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9" name=""/>
          <p:cNvGraphicFramePr/>
          <p:nvPr/>
        </p:nvGraphicFramePr>
        <p:xfrm>
          <a:off x="3079800" y="1498680"/>
          <a:ext cx="2714400" cy="175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79800" y="1498680"/>
                    <a:ext cx="271440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1" name=""/>
          <p:cNvGraphicFramePr/>
          <p:nvPr/>
        </p:nvGraphicFramePr>
        <p:xfrm>
          <a:off x="1859040" y="4672080"/>
          <a:ext cx="852480" cy="66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59040" y="4672080"/>
                    <a:ext cx="8524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3" name=""/>
          <p:cNvGraphicFramePr/>
          <p:nvPr/>
        </p:nvGraphicFramePr>
        <p:xfrm>
          <a:off x="1741320" y="5722920"/>
          <a:ext cx="971640" cy="68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41320" y="5722920"/>
                    <a:ext cx="971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5" name=""/>
          <p:cNvGraphicFramePr/>
          <p:nvPr/>
        </p:nvGraphicFramePr>
        <p:xfrm>
          <a:off x="6299280" y="4505400"/>
          <a:ext cx="772920" cy="1041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9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99280" y="4505400"/>
                    <a:ext cx="7729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7" name=""/>
          <p:cNvGraphicFramePr/>
          <p:nvPr/>
        </p:nvGraphicFramePr>
        <p:xfrm>
          <a:off x="6337440" y="5740560"/>
          <a:ext cx="738000" cy="68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9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37440" y="5740560"/>
                    <a:ext cx="7380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9" name=""/>
          <p:cNvSpPr/>
          <p:nvPr/>
        </p:nvSpPr>
        <p:spPr>
          <a:xfrm>
            <a:off x="952560" y="495360"/>
            <a:ext cx="6838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5 for $1,000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1301" name="j0088510" descr=""/>
            <p:cNvPicPr/>
            <p:nvPr/>
          </p:nvPicPr>
          <p:blipFill>
            <a:blip r:embed="rId23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remove" presetClass="emph" presetID="1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nextques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  <p:animClr clrSpc="rgb">
                                      <p:cBhvr>
                                        <p:cTn id="5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  <p:set>
                                      <p:cBhvr>
                                        <p:cTn id="5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9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2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500"/>
                            </p:stCondLst>
                            <p:childTnLst>
                              <p:par>
                                <p:cTn id="60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500"/>
                            </p:stCondLst>
                            <p:childTnLst>
                              <p:par>
                                <p:cTn id="61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1304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1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0" y="127584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1317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8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9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1323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9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3079800" y="1498680"/>
          <a:ext cx="2714400" cy="1754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79800" y="1498680"/>
                    <a:ext cx="271440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2" name=""/>
          <p:cNvGraphicFramePr/>
          <p:nvPr/>
        </p:nvGraphicFramePr>
        <p:xfrm>
          <a:off x="1741320" y="5722920"/>
          <a:ext cx="971640" cy="684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41320" y="5722920"/>
                    <a:ext cx="971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4" name=""/>
          <p:cNvGraphicFramePr/>
          <p:nvPr/>
        </p:nvGraphicFramePr>
        <p:xfrm>
          <a:off x="6337440" y="5740560"/>
          <a:ext cx="738000" cy="684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337440" y="5740560"/>
                    <a:ext cx="7380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6" name=""/>
          <p:cNvSpPr/>
          <p:nvPr/>
        </p:nvSpPr>
        <p:spPr>
          <a:xfrm>
            <a:off x="952560" y="495360"/>
            <a:ext cx="6838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5 for $1,000,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1338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9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remove" presetClass="emph" presetID="1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nextques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  <p:animClr clrSpc="rgb">
                                      <p:cBhvr>
                                        <p:cTn id="6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  <p:set>
                                      <p:cBhvr>
                                        <p:cTn id="6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2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500"/>
                            </p:stCondLst>
                            <p:childTnLst>
                              <p:par>
                                <p:cTn id="63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342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609480" y="1714680"/>
            <a:ext cx="8102880" cy="204912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552760" y="4267080"/>
            <a:ext cx="3809880" cy="138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For $1,000,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TADA.WAV"/>
      </p:stSnd>
    </p:sndAc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remove" presetClass="emph" presetID="1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4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1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348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0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>
            <a:hlinkClick r:id="rId1" action="ppaction://hlinksldjump"/>
          </p:cNvPr>
          <p:cNvSpPr/>
          <p:nvPr/>
        </p:nvSpPr>
        <p:spPr>
          <a:xfrm>
            <a:off x="3048120" y="5505480"/>
            <a:ext cx="32004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2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TAD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k the Audien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7480" y="2550960"/>
            <a:ext cx="792504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771192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udience, we need your help on this one…in a moment, we’ll ask you to indicate, by show of hands, your choice for the correct answer…”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752480"/>
            <a:ext cx="792504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5257800" y="5715000"/>
            <a:ext cx="34416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urn to the Qu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64200" y="595440"/>
            <a:ext cx="2327040" cy="1266480"/>
            <a:chOff x="6064200" y="595440"/>
            <a:chExt cx="2327040" cy="1266480"/>
          </a:xfrm>
        </p:grpSpPr>
        <p:sp>
          <p:nvSpPr>
            <p:cNvPr id="98" name=""/>
            <p:cNvSpPr/>
            <p:nvPr/>
          </p:nvSpPr>
          <p:spPr>
            <a:xfrm>
              <a:off x="6067440" y="609480"/>
              <a:ext cx="2295360" cy="124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064200" y="595440"/>
              <a:ext cx="2327040" cy="1266480"/>
              <a:chOff x="6064200" y="595440"/>
              <a:chExt cx="2327040" cy="12664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6342840" y="855720"/>
                <a:ext cx="1774080" cy="880560"/>
                <a:chOff x="6342840" y="855720"/>
                <a:chExt cx="1774080" cy="880560"/>
              </a:xfrm>
            </p:grpSpPr>
            <p:sp>
              <p:nvSpPr>
                <p:cNvPr id="101" name=""/>
                <p:cNvSpPr/>
                <p:nvPr/>
              </p:nvSpPr>
              <p:spPr>
                <a:xfrm flipV="1">
                  <a:off x="7560720" y="1130400"/>
                  <a:ext cx="556200" cy="522360"/>
                </a:xfrm>
                <a:prstGeom prst="flowChartOffpageConnector">
                  <a:avLst/>
                </a:prstGeom>
                <a:solidFill>
                  <a:srgbClr val="000000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6342840" y="1130400"/>
                  <a:ext cx="558720" cy="522360"/>
                </a:xfrm>
                <a:prstGeom prst="flowChartOffpageConnector">
                  <a:avLst/>
                </a:prstGeom>
                <a:solidFill>
                  <a:srgbClr val="000000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6935760" y="1172520"/>
                  <a:ext cx="573480" cy="563760"/>
                </a:xfrm>
                <a:prstGeom prst="flowChartOffpageConnector">
                  <a:avLst/>
                </a:prstGeom>
                <a:solidFill>
                  <a:srgbClr val="000000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471360" y="855720"/>
                  <a:ext cx="287640" cy="25812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69440" y="864360"/>
                  <a:ext cx="290160" cy="25812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072920" y="890640"/>
                  <a:ext cx="290880" cy="27540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>
                <a:hlinkClick r:id="rId1" action="ppaction://hlinksldjump"/>
              </p:cNvPr>
              <p:cNvSpPr/>
              <p:nvPr/>
            </p:nvSpPr>
            <p:spPr>
              <a:xfrm>
                <a:off x="6064200" y="595440"/>
                <a:ext cx="2327040" cy="1266480"/>
              </a:xfrm>
              <a:prstGeom prst="ellipse">
                <a:avLst/>
              </a:prstGeom>
              <a:noFill/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skau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354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>
            <a:hlinkClick r:id="rId1" action="ppaction://hlinksldjump"/>
          </p:cNvPr>
          <p:cNvSpPr/>
          <p:nvPr/>
        </p:nvSpPr>
        <p:spPr>
          <a:xfrm>
            <a:off x="3048120" y="5505480"/>
            <a:ext cx="32004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3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TAD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360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>
            <a:hlinkClick r:id="rId1" action="ppaction://hlinksldjump"/>
          </p:cNvPr>
          <p:cNvSpPr/>
          <p:nvPr/>
        </p:nvSpPr>
        <p:spPr>
          <a:xfrm>
            <a:off x="3048120" y="5505480"/>
            <a:ext cx="32004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5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TAD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366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8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>
            <a:hlinkClick r:id="rId1" action="ppaction://hlinksldjump"/>
          </p:cNvPr>
          <p:cNvSpPr/>
          <p:nvPr/>
        </p:nvSpPr>
        <p:spPr>
          <a:xfrm>
            <a:off x="3048120" y="5505480"/>
            <a:ext cx="348588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10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TAD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372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4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>
            <a:hlinkClick r:id="rId1" action="ppaction://hlinksldjump"/>
          </p:cNvPr>
          <p:cNvSpPr/>
          <p:nvPr/>
        </p:nvSpPr>
        <p:spPr>
          <a:xfrm>
            <a:off x="2724120" y="5505480"/>
            <a:ext cx="35244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20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TAD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378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>
            <a:hlinkClick r:id="rId1" action="ppaction://hlinksldjump"/>
          </p:cNvPr>
          <p:cNvSpPr/>
          <p:nvPr/>
        </p:nvSpPr>
        <p:spPr>
          <a:xfrm>
            <a:off x="3048120" y="5505480"/>
            <a:ext cx="344808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40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TAD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384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819520" y="5505480"/>
            <a:ext cx="34290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80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TAD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390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819520" y="5505480"/>
            <a:ext cx="363852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16,0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TAD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396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743200" y="5505480"/>
            <a:ext cx="36576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32,0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TADA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402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781360" y="5505480"/>
            <a:ext cx="363852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64,0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TAD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408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629080" y="5505480"/>
            <a:ext cx="407664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125,0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TAD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y - Fif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771192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You’ve asked that two of the wrong answers be eliminated, leaving you with one wrong answer plus the correct one.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752480"/>
            <a:ext cx="762012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  <a:hlinkClick r:id="rId1"/>
          </p:cNvPr>
          <p:cNvSpPr/>
          <p:nvPr/>
        </p:nvSpPr>
        <p:spPr>
          <a:xfrm>
            <a:off x="5638680" y="501480"/>
            <a:ext cx="2590920" cy="13716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5257800" y="5715000"/>
            <a:ext cx="34416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urn to the Qu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414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610000" y="5505480"/>
            <a:ext cx="39240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250,0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TAD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420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600280" y="5543640"/>
            <a:ext cx="394344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500,0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TADA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426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8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438280" y="5505480"/>
            <a:ext cx="426744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$1,000,000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TAD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247680"/>
            <a:ext cx="9144000" cy="6362280"/>
            <a:chOff x="0" y="247680"/>
            <a:chExt cx="9144000" cy="6362280"/>
          </a:xfrm>
        </p:grpSpPr>
        <p:sp>
          <p:nvSpPr>
            <p:cNvPr id="115" name=""/>
            <p:cNvSpPr/>
            <p:nvPr/>
          </p:nvSpPr>
          <p:spPr>
            <a:xfrm>
              <a:off x="0" y="247680"/>
              <a:ext cx="9144000" cy="636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0" y="346392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00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5467320" y="5467320"/>
            <a:ext cx="32004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ceed to Next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324000" y="5505480"/>
            <a:ext cx="34416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turn to the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TAD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rr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228600"/>
            <a:ext cx="9144000" cy="6381360"/>
            <a:chOff x="0" y="228600"/>
            <a:chExt cx="9144000" cy="6381360"/>
          </a:xfrm>
        </p:grpSpPr>
        <p:sp>
          <p:nvSpPr>
            <p:cNvPr id="122" name=""/>
            <p:cNvSpPr/>
            <p:nvPr/>
          </p:nvSpPr>
          <p:spPr>
            <a:xfrm>
              <a:off x="0" y="228600"/>
              <a:ext cx="9144000" cy="6381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0" y="3454560"/>
              <a:ext cx="9144000" cy="252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2438280"/>
            <a:ext cx="8102880" cy="2049480"/>
          </a:xfrm>
          <a:prstGeom prst="flowChartPreparation">
            <a:avLst/>
          </a:prstGeom>
          <a:solidFill>
            <a:srgbClr val="ffcc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rry, That’s Incorrec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3048120" y="5524560"/>
            <a:ext cx="3441600" cy="8920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turn to the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alarm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127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00160" y="119988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5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6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7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  <a:hlinkClick r:id="rId8"/>
          </p:cNvPr>
          <p:cNvSpPr/>
          <p:nvPr/>
        </p:nvSpPr>
        <p:spPr>
          <a:xfrm>
            <a:off x="15228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141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64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768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149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419720" y="1415880"/>
          <a:ext cx="1218960" cy="81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19720" y="1415880"/>
                    <a:ext cx="1218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685880" y="4673520"/>
          <a:ext cx="1008000" cy="684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85880" y="4673520"/>
                    <a:ext cx="10080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741320" y="5721480"/>
          <a:ext cx="973440" cy="684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741320" y="5721480"/>
                    <a:ext cx="97344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200640" y="4700520"/>
          <a:ext cx="1008360" cy="666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200640" y="4700520"/>
                    <a:ext cx="1008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208560" y="5740560"/>
          <a:ext cx="990720" cy="684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208560" y="5740560"/>
                    <a:ext cx="990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 for $1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168" name="j0088510" descr=""/>
            <p:cNvPicPr/>
            <p:nvPr/>
          </p:nvPicPr>
          <p:blipFill>
            <a:blip r:embed="rId22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3500280"/>
            <a:ext cx="9144000" cy="3129120"/>
            <a:chOff x="0" y="3500280"/>
            <a:chExt cx="9144000" cy="3129120"/>
          </a:xfrm>
        </p:grpSpPr>
        <p:sp>
          <p:nvSpPr>
            <p:cNvPr id="171" name=""/>
            <p:cNvSpPr/>
            <p:nvPr/>
          </p:nvSpPr>
          <p:spPr>
            <a:xfrm>
              <a:off x="0" y="3500280"/>
              <a:ext cx="9144000" cy="3129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6076800"/>
              <a:ext cx="914400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>
              <a:hlinkClick r:id="rId1" action="ppaction://hlinksldjump"/>
            </p:cNvPr>
            <p:cNvSpPr/>
            <p:nvPr/>
          </p:nvSpPr>
          <p:spPr>
            <a:xfrm>
              <a:off x="233280" y="4570560"/>
              <a:ext cx="426744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>
              <a:hlinkClick r:id="rId2" action="ppaction://hlinksldjump"/>
            </p:cNvPr>
            <p:cNvSpPr/>
            <p:nvPr/>
          </p:nvSpPr>
          <p:spPr>
            <a:xfrm>
              <a:off x="21924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>
              <a:hlinkClick r:id="rId3" action="ppaction://hlinksldjump"/>
            </p:cNvPr>
            <p:cNvSpPr/>
            <p:nvPr/>
          </p:nvSpPr>
          <p:spPr>
            <a:xfrm>
              <a:off x="4680000" y="562932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>
              <a:hlinkClick r:id="rId4" action="ppaction://hlinksldjump"/>
            </p:cNvPr>
            <p:cNvSpPr/>
            <p:nvPr/>
          </p:nvSpPr>
          <p:spPr>
            <a:xfrm>
              <a:off x="4692600" y="4568760"/>
              <a:ext cx="4267080" cy="914400"/>
            </a:xfrm>
            <a:prstGeom prst="flowChartPreparation">
              <a:avLst/>
            </a:prstGeom>
            <a:solidFill>
              <a:srgbClr val="000000"/>
            </a:soli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>
            <a:hlinkClick r:id="rId5" action="ppaction://hlinksldjump"/>
          </p:cNvPr>
          <p:cNvSpPr/>
          <p:nvPr/>
        </p:nvSpPr>
        <p:spPr>
          <a:xfrm>
            <a:off x="233280" y="45705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00160" y="119988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mplify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21924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rId7" action="ppaction://hlinksldjump"/>
          </p:cNvPr>
          <p:cNvSpPr/>
          <p:nvPr/>
        </p:nvSpPr>
        <p:spPr>
          <a:xfrm>
            <a:off x="4680000" y="56293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rId8" action="ppaction://hlinksldjump"/>
          </p:cNvPr>
          <p:cNvSpPr/>
          <p:nvPr/>
        </p:nvSpPr>
        <p:spPr>
          <a:xfrm>
            <a:off x="4692600" y="4568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777680" y="3816000"/>
            <a:ext cx="870120" cy="571680"/>
            <a:chOff x="1777680" y="3816000"/>
            <a:chExt cx="870120" cy="571680"/>
          </a:xfrm>
        </p:grpSpPr>
        <p:pic>
          <p:nvPicPr>
            <p:cNvPr id="184" name="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2195640" y="3816000"/>
              <a:ext cx="452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flipH="1" flipV="1" rot="2869200">
              <a:off x="1700280" y="4089960"/>
              <a:ext cx="635040" cy="74520"/>
            </a:xfrm>
            <a:custGeom>
              <a:avLst/>
              <a:gdLst/>
              <a:ahLst/>
              <a:rect l="l" t="t" r="r" b="b"/>
              <a:pathLst>
                <a:path w="3264" h="336">
                  <a:moveTo>
                    <a:pt x="0" y="336"/>
                  </a:moveTo>
                  <a:cubicBezTo>
                    <a:pt x="96" y="168"/>
                    <a:pt x="192" y="0"/>
                    <a:pt x="288" y="0"/>
                  </a:cubicBezTo>
                  <a:cubicBezTo>
                    <a:pt x="384" y="0"/>
                    <a:pt x="480" y="336"/>
                    <a:pt x="576" y="336"/>
                  </a:cubicBezTo>
                  <a:cubicBezTo>
                    <a:pt x="672" y="336"/>
                    <a:pt x="776" y="0"/>
                    <a:pt x="864" y="0"/>
                  </a:cubicBezTo>
                  <a:cubicBezTo>
                    <a:pt x="952" y="0"/>
                    <a:pt x="1016" y="336"/>
                    <a:pt x="1104" y="336"/>
                  </a:cubicBezTo>
                  <a:cubicBezTo>
                    <a:pt x="1192" y="336"/>
                    <a:pt x="1304" y="0"/>
                    <a:pt x="1392" y="0"/>
                  </a:cubicBezTo>
                  <a:cubicBezTo>
                    <a:pt x="1480" y="0"/>
                    <a:pt x="1544" y="336"/>
                    <a:pt x="1632" y="336"/>
                  </a:cubicBezTo>
                  <a:cubicBezTo>
                    <a:pt x="1720" y="336"/>
                    <a:pt x="1832" y="0"/>
                    <a:pt x="1920" y="0"/>
                  </a:cubicBezTo>
                  <a:cubicBezTo>
                    <a:pt x="2008" y="0"/>
                    <a:pt x="2072" y="336"/>
                    <a:pt x="2160" y="336"/>
                  </a:cubicBezTo>
                  <a:cubicBezTo>
                    <a:pt x="2248" y="336"/>
                    <a:pt x="2352" y="0"/>
                    <a:pt x="2448" y="0"/>
                  </a:cubicBezTo>
                  <a:cubicBezTo>
                    <a:pt x="2544" y="0"/>
                    <a:pt x="2640" y="336"/>
                    <a:pt x="2736" y="336"/>
                  </a:cubicBezTo>
                  <a:cubicBezTo>
                    <a:pt x="2832" y="336"/>
                    <a:pt x="2936" y="0"/>
                    <a:pt x="3024" y="0"/>
                  </a:cubicBezTo>
                  <a:cubicBezTo>
                    <a:pt x="3112" y="0"/>
                    <a:pt x="3188" y="168"/>
                    <a:pt x="3264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>
            <a:hlinkClick r:id="rId10" action="ppaction://hlinksldjump"/>
          </p:cNvPr>
          <p:cNvSpPr/>
          <p:nvPr/>
        </p:nvSpPr>
        <p:spPr>
          <a:xfrm>
            <a:off x="1600200" y="37386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640" y="479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7680" y="579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09760" y="3879720"/>
            <a:ext cx="987480" cy="475920"/>
            <a:chOff x="3209760" y="3879720"/>
            <a:chExt cx="987480" cy="475920"/>
          </a:xfrm>
        </p:grpSpPr>
        <p:sp>
          <p:nvSpPr>
            <p:cNvPr id="190" name=""/>
            <p:cNvSpPr/>
            <p:nvPr/>
          </p:nvSpPr>
          <p:spPr>
            <a:xfrm flipV="1">
              <a:off x="3887640" y="4028040"/>
              <a:ext cx="30960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09760" y="4028040"/>
              <a:ext cx="311040" cy="28260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539880" y="4050360"/>
              <a:ext cx="319320" cy="304920"/>
            </a:xfrm>
            <a:prstGeom prst="flowChartOffpageConnector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81400" y="3879720"/>
              <a:ext cx="16020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48120" y="3884400"/>
              <a:ext cx="161640" cy="1396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16200" y="3898800"/>
              <a:ext cx="162000" cy="1490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>
            <a:hlinkClick r:id="rId11" action="ppaction://hlinksldjump"/>
          </p:cNvPr>
          <p:cNvSpPr/>
          <p:nvPr/>
        </p:nvSpPr>
        <p:spPr>
          <a:xfrm>
            <a:off x="3054240" y="373860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419720" y="1415880"/>
          <a:ext cx="1218960" cy="81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19720" y="1415880"/>
                    <a:ext cx="1218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685880" y="4673520"/>
          <a:ext cx="1008000" cy="684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85880" y="4673520"/>
                    <a:ext cx="10080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208560" y="5740560"/>
          <a:ext cx="990720" cy="684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08560" y="5740560"/>
                    <a:ext cx="990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467000" y="49536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 1 for $1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72000" y="3714840"/>
            <a:ext cx="1276200" cy="666720"/>
            <a:chOff x="4572000" y="3714840"/>
            <a:chExt cx="1276200" cy="666720"/>
          </a:xfrm>
        </p:grpSpPr>
        <p:pic>
          <p:nvPicPr>
            <p:cNvPr id="205" name="j0088510" descr=""/>
            <p:cNvPicPr/>
            <p:nvPr/>
          </p:nvPicPr>
          <p:blipFill>
            <a:blip r:embed="rId18"/>
            <a:stretch/>
          </p:blipFill>
          <p:spPr>
            <a:xfrm>
              <a:off x="4914720" y="3753000"/>
              <a:ext cx="5810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572000" y="3714840"/>
              <a:ext cx="1276200" cy="666720"/>
            </a:xfrm>
            <a:prstGeom prst="ellipse">
              <a:avLst/>
            </a:prstGeom>
            <a:noFill/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9:51:19Z</dcterms:created>
  <dc:creator>wcsd</dc:creator>
  <dc:description/>
  <dc:language>en-US</dc:language>
  <cp:lastModifiedBy>WCPSS</cp:lastModifiedBy>
  <dcterms:modified xsi:type="dcterms:W3CDTF">2003-11-21T16:41:19Z</dcterms:modified>
  <cp:revision>84</cp:revision>
  <dc:subject/>
  <dc:title>Title Slide</dc:title>
</cp:coreProperties>
</file>